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7162920" cy="5257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52280" y="1143000"/>
            <a:ext cx="1524240" cy="525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048520" y="152280"/>
            <a:ext cx="935280" cy="874440"/>
            <a:chOff x="8048520" y="152280"/>
            <a:chExt cx="935280" cy="874440"/>
          </a:xfrm>
        </p:grpSpPr>
        <p:pic>
          <p:nvPicPr>
            <p:cNvPr id="9" name="" descr=""/>
            <p:cNvPicPr/>
            <p:nvPr/>
          </p:nvPicPr>
          <p:blipFill>
            <a:blip r:embed="rId5"/>
            <a:stretch/>
          </p:blipFill>
          <p:spPr>
            <a:xfrm>
              <a:off x="8048520" y="152280"/>
              <a:ext cx="9352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6"/>
            <a:srcRect l="0" t="4620" r="8867" b="0"/>
            <a:stretch/>
          </p:blipFill>
          <p:spPr>
            <a:xfrm>
              <a:off x="8048520" y="708120"/>
              <a:ext cx="935280" cy="31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"/>
          <p:cNvSpPr/>
          <p:nvPr/>
        </p:nvSpPr>
        <p:spPr>
          <a:xfrm>
            <a:off x="8529480" y="6480"/>
            <a:ext cx="601920" cy="57132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086600" y="152280"/>
            <a:ext cx="920880" cy="881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Siemens Sans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Siemens Sans"/>
              </a:rPr>
              <a:t>Gen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120560" y="6526080"/>
            <a:ext cx="874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- </a:t>
            </a:r>
            <a:fld id="{77FE8254-F462-4E59-BD99-F99E27B7E444}" type="slidenum">
              <a:rPr b="0" lang="en-US" sz="9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809720" y="649296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0000"/>
                </a:solidFill>
                <a:latin typeface="Siemens Sans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7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202680"/>
            <a:ext cx="698508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iemens Sans"/>
              </a:rPr>
              <a:t>Feedback to Scenario II from 3rd Dec 2004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8" name=""/>
          <p:cNvSpPr/>
          <p:nvPr/>
        </p:nvSpPr>
        <p:spPr>
          <a:xfrm>
            <a:off x="141120" y="105264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100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101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422280" y="1225440"/>
            <a:ext cx="8165880" cy="420480"/>
            <a:chOff x="422280" y="1225440"/>
            <a:chExt cx="8165880" cy="420480"/>
          </a:xfrm>
        </p:grpSpPr>
        <p:sp>
          <p:nvSpPr>
            <p:cNvPr id="113" name=""/>
            <p:cNvSpPr/>
            <p:nvPr/>
          </p:nvSpPr>
          <p:spPr>
            <a:xfrm>
              <a:off x="246708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956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2280" y="12254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780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18160" y="12459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09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13320" y="14443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2280" y="14443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648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705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680" y="1657440"/>
            <a:ext cx="1984320" cy="133488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3960" y="1806480"/>
            <a:ext cx="1631520" cy="304560"/>
            <a:chOff x="93960" y="1806480"/>
            <a:chExt cx="1631520" cy="304560"/>
          </a:xfrm>
        </p:grpSpPr>
        <p:sp>
          <p:nvSpPr>
            <p:cNvPr id="136" name=""/>
            <p:cNvSpPr/>
            <p:nvPr/>
          </p:nvSpPr>
          <p:spPr>
            <a:xfrm>
              <a:off x="93960" y="1857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0720" y="180648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821160" y="50148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39720" y="4925880"/>
            <a:ext cx="933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Flamin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Stylish&amp;s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affordable sl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9600" y="2589120"/>
            <a:ext cx="110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Wol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(UMTS Busine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2320" y="26352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16040" y="172872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2600" y="1763640"/>
            <a:ext cx="109440" cy="371520"/>
            <a:chOff x="552600" y="1763640"/>
            <a:chExt cx="109440" cy="371520"/>
          </a:xfrm>
        </p:grpSpPr>
        <p:sp>
          <p:nvSpPr>
            <p:cNvPr id="144" name=""/>
            <p:cNvSpPr/>
            <p:nvPr/>
          </p:nvSpPr>
          <p:spPr>
            <a:xfrm>
              <a:off x="552600" y="176364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2600" y="18378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2600" y="19494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2600" y="19864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2600" y="20235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2600" y="20610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2600" y="2098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468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32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96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293840" y="2509920"/>
            <a:ext cx="109440" cy="371520"/>
            <a:chOff x="1293840" y="2509920"/>
            <a:chExt cx="109440" cy="371520"/>
          </a:xfrm>
        </p:grpSpPr>
        <p:sp>
          <p:nvSpPr>
            <p:cNvPr id="155" name=""/>
            <p:cNvSpPr/>
            <p:nvPr/>
          </p:nvSpPr>
          <p:spPr>
            <a:xfrm>
              <a:off x="1293840" y="250992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93840" y="2584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3840" y="26956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3840" y="27327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3840" y="276984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93840" y="28072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3840" y="28443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592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4856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2120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220760" y="4962600"/>
            <a:ext cx="303120" cy="204840"/>
            <a:chOff x="1220760" y="4962600"/>
            <a:chExt cx="303120" cy="204840"/>
          </a:xfrm>
        </p:grpSpPr>
        <p:sp>
          <p:nvSpPr>
            <p:cNvPr id="166" name=""/>
            <p:cNvSpPr/>
            <p:nvPr/>
          </p:nvSpPr>
          <p:spPr>
            <a:xfrm>
              <a:off x="1220760" y="506736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04640" y="50817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2960" y="51055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2440" y="51310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26648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25440" y="51501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301400" y="508320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34280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87360" y="496260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1880" y="49942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19040" y="5038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9640" y="3141720"/>
            <a:ext cx="1436760" cy="936720"/>
            <a:chOff x="539640" y="3141720"/>
            <a:chExt cx="1436760" cy="936720"/>
          </a:xfrm>
        </p:grpSpPr>
        <p:sp>
          <p:nvSpPr>
            <p:cNvPr id="178" name=""/>
            <p:cNvSpPr/>
            <p:nvPr/>
          </p:nvSpPr>
          <p:spPr>
            <a:xfrm>
              <a:off x="539640" y="3141720"/>
              <a:ext cx="1436760" cy="93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614160" y="3684960"/>
              <a:ext cx="1352880" cy="139680"/>
              <a:chOff x="614160" y="3684960"/>
              <a:chExt cx="1352880" cy="139680"/>
            </a:xfrm>
          </p:grpSpPr>
          <p:sp>
            <p:nvSpPr>
              <p:cNvPr id="180" name=""/>
              <p:cNvSpPr/>
              <p:nvPr/>
            </p:nvSpPr>
            <p:spPr>
              <a:xfrm>
                <a:off x="614160" y="368496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50240" y="3702600"/>
                <a:ext cx="1216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products (w/o UM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79240" y="3848400"/>
              <a:ext cx="1139040" cy="193680"/>
              <a:chOff x="579240" y="3848400"/>
              <a:chExt cx="1139040" cy="193680"/>
            </a:xfrm>
          </p:grpSpPr>
          <p:sp>
            <p:nvSpPr>
              <p:cNvPr id="183" name=""/>
              <p:cNvSpPr/>
              <p:nvPr/>
            </p:nvSpPr>
            <p:spPr>
              <a:xfrm>
                <a:off x="579240" y="38484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7240" y="38880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14160" y="3513240"/>
              <a:ext cx="846000" cy="152640"/>
              <a:chOff x="614160" y="3513240"/>
              <a:chExt cx="846000" cy="152640"/>
            </a:xfrm>
          </p:grpSpPr>
          <p:sp>
            <p:nvSpPr>
              <p:cNvPr id="186" name=""/>
              <p:cNvSpPr/>
              <p:nvPr/>
            </p:nvSpPr>
            <p:spPr>
              <a:xfrm>
                <a:off x="614160" y="352116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84440" y="351324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269720" y="3183120"/>
              <a:ext cx="280440" cy="291960"/>
              <a:chOff x="1269720" y="3183120"/>
              <a:chExt cx="280440" cy="29196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1269720" y="3183120"/>
                <a:ext cx="78120" cy="291960"/>
                <a:chOff x="1269720" y="3183120"/>
                <a:chExt cx="78120" cy="2919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269720" y="31831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269720" y="32414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69720" y="33292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269720" y="3358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269720" y="33876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269720" y="34167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269720" y="34459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32840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0860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28916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416960" y="32781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560240" y="3183120"/>
              <a:ext cx="375840" cy="291960"/>
              <a:chOff x="1560240" y="3183120"/>
              <a:chExt cx="375840" cy="2919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560240" y="3183120"/>
                <a:ext cx="77040" cy="291960"/>
                <a:chOff x="1560240" y="3183120"/>
                <a:chExt cx="77040" cy="2919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560240" y="31831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560240" y="32414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560240" y="33292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560240" y="3358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560240" y="33876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560240" y="34167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560240" y="34459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1784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59876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57932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691640" y="32781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87520" y="31989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614960" y="53276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5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76640" y="537372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98680" y="5091120"/>
            <a:ext cx="15955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Siemens Sans"/>
              </a:rPr>
              <a:t>Sisk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Siemens Sans"/>
              </a:rPr>
              <a:t>onv varia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08200" y="5211720"/>
            <a:ext cx="47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059280" y="5164200"/>
            <a:ext cx="186840" cy="349200"/>
            <a:chOff x="3059280" y="5164200"/>
            <a:chExt cx="186840" cy="349200"/>
          </a:xfrm>
        </p:grpSpPr>
        <p:sp>
          <p:nvSpPr>
            <p:cNvPr id="220" name=""/>
            <p:cNvSpPr/>
            <p:nvPr/>
          </p:nvSpPr>
          <p:spPr>
            <a:xfrm>
              <a:off x="3133800" y="516420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59280" y="537228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33800" y="523404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33800" y="53388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0840" y="539136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97080" y="542628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81240" y="546120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092400" y="539136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62160" y="54896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119040" y="539280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147840" y="539136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927880" y="55864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0480" y="5025960"/>
            <a:ext cx="9079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Bramb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ff0000"/>
                </a:solidFill>
                <a:latin typeface="Siemens Sans"/>
              </a:rPr>
              <a:t>OUTDO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31720" y="508644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438880" y="4970520"/>
            <a:ext cx="109440" cy="371520"/>
            <a:chOff x="5438880" y="4970520"/>
            <a:chExt cx="109440" cy="371520"/>
          </a:xfrm>
        </p:grpSpPr>
        <p:sp>
          <p:nvSpPr>
            <p:cNvPr id="235" name=""/>
            <p:cNvSpPr/>
            <p:nvPr/>
          </p:nvSpPr>
          <p:spPr>
            <a:xfrm>
              <a:off x="5438880" y="497052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38880" y="50446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38880" y="51562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38880" y="51933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38880" y="523044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38880" y="52678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8880" y="53049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2096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9360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6624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364360" y="536580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639880" y="5672160"/>
            <a:ext cx="111240" cy="371520"/>
            <a:chOff x="2639880" y="5672160"/>
            <a:chExt cx="111240" cy="371520"/>
          </a:xfrm>
        </p:grpSpPr>
        <p:sp>
          <p:nvSpPr>
            <p:cNvPr id="247" name=""/>
            <p:cNvSpPr/>
            <p:nvPr/>
          </p:nvSpPr>
          <p:spPr>
            <a:xfrm>
              <a:off x="2639880" y="5672160"/>
              <a:ext cx="111240" cy="371520"/>
            </a:xfrm>
            <a:custGeom>
              <a:avLst/>
              <a:gdLst>
                <a:gd name="textAreaLeft" fmla="*/ 5400 w 111240"/>
                <a:gd name="textAreaRight" fmla="*/ 105840 w 111240"/>
                <a:gd name="textAreaTop" fmla="*/ 5400 h 371520"/>
                <a:gd name="textAreaBottom" fmla="*/ 366120 h 371520"/>
              </a:gdLst>
              <a:ahLst/>
              <a:rect l="textAreaLeft" t="textAreaTop" r="textAreaRight" b="textAreaBottom"/>
              <a:pathLst>
                <a:path w="21600" h="71977">
                  <a:moveTo>
                    <a:pt x="3600" y="0"/>
                  </a:moveTo>
                  <a:arcTo wR="3600" hR="3600" stAng="16200000" swAng="-5400000"/>
                  <a:lnTo>
                    <a:pt x="0" y="68377"/>
                  </a:lnTo>
                  <a:arcTo wR="3600" hR="3600" stAng="10800000" swAng="-5400000"/>
                  <a:lnTo>
                    <a:pt x="18000" y="719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39880" y="57463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39880" y="58579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39880" y="589500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39880" y="593208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39880" y="59695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9880" y="600660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2340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9532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6760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865600" y="5683320"/>
            <a:ext cx="1280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F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(Libra 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Entry color/ MMS w/o c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58640" y="57927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1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4480" y="59878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5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101000" y="4646520"/>
            <a:ext cx="1771560" cy="654840"/>
            <a:chOff x="7101000" y="4646520"/>
            <a:chExt cx="1771560" cy="654840"/>
          </a:xfrm>
        </p:grpSpPr>
        <p:sp>
          <p:nvSpPr>
            <p:cNvPr id="261" name=""/>
            <p:cNvSpPr/>
            <p:nvPr/>
          </p:nvSpPr>
          <p:spPr>
            <a:xfrm>
              <a:off x="7101000" y="464652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38120" y="4727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8375760" y="4657680"/>
              <a:ext cx="108000" cy="371160"/>
              <a:chOff x="8375760" y="4657680"/>
              <a:chExt cx="108000" cy="371160"/>
            </a:xfrm>
          </p:grpSpPr>
          <p:sp>
            <p:nvSpPr>
              <p:cNvPr id="264" name=""/>
              <p:cNvSpPr/>
              <p:nvPr/>
            </p:nvSpPr>
            <p:spPr>
              <a:xfrm>
                <a:off x="8375760" y="4657680"/>
                <a:ext cx="108000" cy="37116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4057">
                    <a:moveTo>
                      <a:pt x="3600" y="0"/>
                    </a:moveTo>
                    <a:arcTo wR="3600" hR="3600" stAng="16200000" swAng="-5400000"/>
                    <a:lnTo>
                      <a:pt x="0" y="70457"/>
                    </a:lnTo>
                    <a:arcTo wR="3600" hR="3600" stAng="10800000" swAng="-5400000"/>
                    <a:lnTo>
                      <a:pt x="18000" y="740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375760" y="4731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375760" y="48434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75760" y="4880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375760" y="49176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75760" y="49546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375760" y="4991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456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429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402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7938000" y="5163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444080" y="2103480"/>
            <a:ext cx="1560240" cy="401760"/>
            <a:chOff x="7444080" y="2103480"/>
            <a:chExt cx="1560240" cy="401760"/>
          </a:xfrm>
        </p:grpSpPr>
        <p:sp>
          <p:nvSpPr>
            <p:cNvPr id="276" name=""/>
            <p:cNvSpPr/>
            <p:nvPr/>
          </p:nvSpPr>
          <p:spPr>
            <a:xfrm>
              <a:off x="7740720" y="2165400"/>
              <a:ext cx="1263600" cy="285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Hummingbi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(Hyd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High-end sty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44080" y="2352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7507440" y="2103480"/>
              <a:ext cx="303120" cy="204840"/>
              <a:chOff x="7507440" y="2103480"/>
              <a:chExt cx="303120" cy="204840"/>
            </a:xfrm>
          </p:grpSpPr>
          <p:sp>
            <p:nvSpPr>
              <p:cNvPr id="279" name=""/>
              <p:cNvSpPr/>
              <p:nvPr/>
            </p:nvSpPr>
            <p:spPr>
              <a:xfrm>
                <a:off x="7507440" y="220824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1320" y="22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59640" y="22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539120" y="22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755316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512120" y="22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588080" y="222408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762948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74040" y="210348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48560" y="21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05720" y="21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7845840" y="2254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624040" y="3776760"/>
            <a:ext cx="1351080" cy="700200"/>
            <a:chOff x="2624040" y="3776760"/>
            <a:chExt cx="1351080" cy="700200"/>
          </a:xfrm>
        </p:grpSpPr>
        <p:grpSp>
          <p:nvGrpSpPr>
            <p:cNvPr id="292" name=""/>
            <p:cNvGrpSpPr/>
            <p:nvPr/>
          </p:nvGrpSpPr>
          <p:grpSpPr>
            <a:xfrm>
              <a:off x="2624040" y="3776760"/>
              <a:ext cx="1351080" cy="700200"/>
              <a:chOff x="2624040" y="3776760"/>
              <a:chExt cx="1351080" cy="70020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3030480" y="3802320"/>
                <a:ext cx="109440" cy="371520"/>
                <a:chOff x="3030480" y="3802320"/>
                <a:chExt cx="109440" cy="3715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030480" y="380232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030480" y="38772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030480" y="39880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030480" y="40248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030480" y="40629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030480" y="40993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030480" y="41374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112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085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05748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624040" y="3776760"/>
                <a:ext cx="1351080" cy="700200"/>
                <a:chOff x="2624040" y="3776760"/>
                <a:chExt cx="1351080" cy="7002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203640" y="377676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624040" y="389592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7" name=""/>
            <p:cNvSpPr/>
            <p:nvPr/>
          </p:nvSpPr>
          <p:spPr>
            <a:xfrm>
              <a:off x="2985480" y="422928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843360" y="2205000"/>
            <a:ext cx="2124000" cy="604080"/>
            <a:chOff x="3843360" y="2205000"/>
            <a:chExt cx="2124000" cy="604080"/>
          </a:xfrm>
        </p:grpSpPr>
        <p:sp>
          <p:nvSpPr>
            <p:cNvPr id="309" name=""/>
            <p:cNvSpPr/>
            <p:nvPr/>
          </p:nvSpPr>
          <p:spPr>
            <a:xfrm>
              <a:off x="5548320" y="2382840"/>
              <a:ext cx="223920" cy="21600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3360" y="238284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ff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89640" y="220500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78560" y="26654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114800" y="3645000"/>
            <a:ext cx="1851120" cy="708840"/>
            <a:chOff x="4114800" y="3645000"/>
            <a:chExt cx="1851120" cy="708840"/>
          </a:xfrm>
        </p:grpSpPr>
        <p:sp>
          <p:nvSpPr>
            <p:cNvPr id="314" name=""/>
            <p:cNvSpPr/>
            <p:nvPr/>
          </p:nvSpPr>
          <p:spPr>
            <a:xfrm>
              <a:off x="4597560" y="3710160"/>
              <a:ext cx="1368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</a:t>
              </a:r>
              <a:r>
                <a:rPr b="0" i="1" lang="de-DE" sz="800" spc="-1" strike="noStrike">
                  <a:solidFill>
                    <a:srgbClr val="000000"/>
                  </a:solidFill>
                  <a:latin typeface="Siemens Sans"/>
                </a:rPr>
                <a:t>Mino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233960" y="3903840"/>
              <a:ext cx="303120" cy="204120"/>
              <a:chOff x="4233960" y="3903840"/>
              <a:chExt cx="303120" cy="204120"/>
            </a:xfrm>
          </p:grpSpPr>
          <p:sp>
            <p:nvSpPr>
              <p:cNvPr id="316" name=""/>
              <p:cNvSpPr/>
              <p:nvPr/>
            </p:nvSpPr>
            <p:spPr>
              <a:xfrm>
                <a:off x="4233960" y="4008240"/>
                <a:ext cx="23652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17840" y="40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86160" y="40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265640" y="40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427968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38640" y="40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4314600" y="402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435600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00560" y="3903840"/>
                <a:ext cx="23652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75080" y="39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32240" y="39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4114800" y="364500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59440" y="4216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97560" y="4013280"/>
              <a:ext cx="133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Siemens Sans"/>
                </a:rPr>
                <a:t>1ID: Multimedia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256520" y="4197240"/>
            <a:ext cx="2068200" cy="349200"/>
            <a:chOff x="7256520" y="4197240"/>
            <a:chExt cx="2068200" cy="349200"/>
          </a:xfrm>
        </p:grpSpPr>
        <p:sp>
          <p:nvSpPr>
            <p:cNvPr id="331" name=""/>
            <p:cNvSpPr/>
            <p:nvPr/>
          </p:nvSpPr>
          <p:spPr>
            <a:xfrm>
              <a:off x="7956360" y="426708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56520" y="43336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88160" y="4197240"/>
              <a:ext cx="186840" cy="349200"/>
              <a:chOff x="7688160" y="4197240"/>
              <a:chExt cx="186840" cy="349200"/>
            </a:xfrm>
          </p:grpSpPr>
          <p:sp>
            <p:nvSpPr>
              <p:cNvPr id="334" name=""/>
              <p:cNvSpPr/>
              <p:nvPr/>
            </p:nvSpPr>
            <p:spPr>
              <a:xfrm>
                <a:off x="7762680" y="41972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688160" y="440496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762680" y="42670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762680" y="43718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749720" y="442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25960" y="44589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710120" y="449388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7721280" y="442404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91040" y="4522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747920" y="44258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778160" y="44240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971640" y="4292640"/>
            <a:ext cx="186840" cy="349200"/>
            <a:chOff x="971640" y="4292640"/>
            <a:chExt cx="186840" cy="349200"/>
          </a:xfrm>
        </p:grpSpPr>
        <p:sp>
          <p:nvSpPr>
            <p:cNvPr id="346" name=""/>
            <p:cNvSpPr/>
            <p:nvPr/>
          </p:nvSpPr>
          <p:spPr>
            <a:xfrm>
              <a:off x="1046160" y="429264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71640" y="450072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6160" y="436248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46160" y="44672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33200" y="45198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09440" y="455472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93600" y="45896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004760" y="451980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74520" y="461808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031400" y="452124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060200" y="451980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246320" y="4511520"/>
            <a:ext cx="128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SISK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= Adonis </a:t>
            </a: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New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27600" y="43527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11280" y="5324400"/>
            <a:ext cx="1496880" cy="409320"/>
            <a:chOff x="611280" y="5324400"/>
            <a:chExt cx="1496880" cy="409320"/>
          </a:xfrm>
        </p:grpSpPr>
        <p:grpSp>
          <p:nvGrpSpPr>
            <p:cNvPr id="360" name=""/>
            <p:cNvGrpSpPr/>
            <p:nvPr/>
          </p:nvGrpSpPr>
          <p:grpSpPr>
            <a:xfrm>
              <a:off x="611280" y="5324400"/>
              <a:ext cx="110880" cy="371520"/>
              <a:chOff x="611280" y="5324400"/>
              <a:chExt cx="110880" cy="371520"/>
            </a:xfrm>
          </p:grpSpPr>
          <p:sp>
            <p:nvSpPr>
              <p:cNvPr id="361" name=""/>
              <p:cNvSpPr/>
              <p:nvPr/>
            </p:nvSpPr>
            <p:spPr>
              <a:xfrm>
                <a:off x="611280" y="532440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1280" y="53985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1280" y="55101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11280" y="55472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1280" y="55843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11280" y="562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1280" y="565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9444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6672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900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818640" y="54450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6920" y="561168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a VG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26880" y="4600440"/>
            <a:ext cx="12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Her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914560" y="5000760"/>
            <a:ext cx="720720" cy="588960"/>
            <a:chOff x="2914560" y="5000760"/>
            <a:chExt cx="720720" cy="588960"/>
          </a:xfrm>
        </p:grpSpPr>
        <p:sp>
          <p:nvSpPr>
            <p:cNvPr id="375" name=""/>
            <p:cNvSpPr/>
            <p:nvPr/>
          </p:nvSpPr>
          <p:spPr>
            <a:xfrm>
              <a:off x="2914560" y="501336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914560" y="500076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7524720" y="4064040"/>
            <a:ext cx="720720" cy="588960"/>
            <a:chOff x="7524720" y="4064040"/>
            <a:chExt cx="720720" cy="588960"/>
          </a:xfrm>
        </p:grpSpPr>
        <p:sp>
          <p:nvSpPr>
            <p:cNvPr id="378" name=""/>
            <p:cNvSpPr/>
            <p:nvPr/>
          </p:nvSpPr>
          <p:spPr>
            <a:xfrm>
              <a:off x="7524720" y="407664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524720" y="406404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68360" y="5288040"/>
            <a:ext cx="720720" cy="588960"/>
            <a:chOff x="468360" y="5288040"/>
            <a:chExt cx="720720" cy="588960"/>
          </a:xfrm>
        </p:grpSpPr>
        <p:sp>
          <p:nvSpPr>
            <p:cNvPr id="381" name=""/>
            <p:cNvSpPr/>
            <p:nvPr/>
          </p:nvSpPr>
          <p:spPr>
            <a:xfrm>
              <a:off x="468360" y="530064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68360" y="528804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164360" y="3174840"/>
            <a:ext cx="2015640" cy="542520"/>
            <a:chOff x="7164360" y="3174840"/>
            <a:chExt cx="2015640" cy="542520"/>
          </a:xfrm>
        </p:grpSpPr>
        <p:sp>
          <p:nvSpPr>
            <p:cNvPr id="384" name=""/>
            <p:cNvSpPr/>
            <p:nvPr/>
          </p:nvSpPr>
          <p:spPr>
            <a:xfrm>
              <a:off x="7811640" y="31748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7448400" y="3267000"/>
              <a:ext cx="302400" cy="204840"/>
              <a:chOff x="7448400" y="3267000"/>
              <a:chExt cx="302400" cy="204840"/>
            </a:xfrm>
          </p:grpSpPr>
          <p:sp>
            <p:nvSpPr>
              <p:cNvPr id="386" name=""/>
              <p:cNvSpPr/>
              <p:nvPr/>
            </p:nvSpPr>
            <p:spPr>
              <a:xfrm>
                <a:off x="7448400" y="3371760"/>
                <a:ext cx="23616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31920" y="3386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00240" y="340992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479720" y="3435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493400" y="3386160"/>
                <a:ext cx="7596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452720" y="34545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528320" y="3387600"/>
                <a:ext cx="7596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569720" y="3386160"/>
                <a:ext cx="7596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14640" y="3267000"/>
                <a:ext cx="23616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589160" y="32986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46320" y="334332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7164360" y="32050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73880" y="3579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16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11640" y="3376440"/>
              <a:ext cx="133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Siemens Sans"/>
                </a:rPr>
                <a:t>3rd ID: BUSINE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 flipV="1">
            <a:off x="1763640" y="4508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384880" y="3852720"/>
            <a:ext cx="1851120" cy="547200"/>
            <a:chOff x="5384880" y="3852720"/>
            <a:chExt cx="1851120" cy="547200"/>
          </a:xfrm>
        </p:grpSpPr>
        <p:sp>
          <p:nvSpPr>
            <p:cNvPr id="402" name=""/>
            <p:cNvSpPr/>
            <p:nvPr/>
          </p:nvSpPr>
          <p:spPr>
            <a:xfrm>
              <a:off x="5867280" y="3894120"/>
              <a:ext cx="13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5504040" y="3949560"/>
              <a:ext cx="303120" cy="204840"/>
              <a:chOff x="5504040" y="3949560"/>
              <a:chExt cx="303120" cy="204840"/>
            </a:xfrm>
          </p:grpSpPr>
          <p:sp>
            <p:nvSpPr>
              <p:cNvPr id="404" name=""/>
              <p:cNvSpPr/>
              <p:nvPr/>
            </p:nvSpPr>
            <p:spPr>
              <a:xfrm>
                <a:off x="5504040" y="40543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587920" y="406872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556240" y="409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535720" y="4118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5549760" y="40687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508720" y="41371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5584680" y="407016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5626080" y="40687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570640" y="39495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45160" y="398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02320" y="40258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5384880" y="385272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29520" y="4262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67280" y="4059360"/>
              <a:ext cx="13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Siemens Sans"/>
                </a:rPr>
                <a:t>2nd ID: MUS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037480" y="5513400"/>
            <a:ext cx="1733040" cy="585360"/>
            <a:chOff x="5037480" y="5513400"/>
            <a:chExt cx="1733040" cy="585360"/>
          </a:xfrm>
        </p:grpSpPr>
        <p:sp>
          <p:nvSpPr>
            <p:cNvPr id="419" name=""/>
            <p:cNvSpPr/>
            <p:nvPr/>
          </p:nvSpPr>
          <p:spPr>
            <a:xfrm>
              <a:off x="503748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5424480" y="5668920"/>
              <a:ext cx="111240" cy="371520"/>
              <a:chOff x="5424480" y="5668920"/>
              <a:chExt cx="111240" cy="371520"/>
            </a:xfrm>
          </p:grpSpPr>
          <p:sp>
            <p:nvSpPr>
              <p:cNvPr id="421" name=""/>
              <p:cNvSpPr/>
              <p:nvPr/>
            </p:nvSpPr>
            <p:spPr>
              <a:xfrm>
                <a:off x="5424480" y="566892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24480" y="5743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24480" y="58546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24480" y="58917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24480" y="5928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24480" y="59662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24480" y="60033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080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47992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52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423040" y="55134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275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12360" y="59612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707800" y="537372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P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280400" y="4457880"/>
            <a:ext cx="2452320" cy="675720"/>
            <a:chOff x="4280400" y="4457880"/>
            <a:chExt cx="2452320" cy="675720"/>
          </a:xfrm>
        </p:grpSpPr>
        <p:grpSp>
          <p:nvGrpSpPr>
            <p:cNvPr id="436" name=""/>
            <p:cNvGrpSpPr/>
            <p:nvPr/>
          </p:nvGrpSpPr>
          <p:grpSpPr>
            <a:xfrm>
              <a:off x="4633920" y="4597560"/>
              <a:ext cx="186840" cy="349200"/>
              <a:chOff x="4633920" y="4597560"/>
              <a:chExt cx="186840" cy="349200"/>
            </a:xfrm>
          </p:grpSpPr>
          <p:sp>
            <p:nvSpPr>
              <p:cNvPr id="437" name=""/>
              <p:cNvSpPr/>
              <p:nvPr/>
            </p:nvSpPr>
            <p:spPr>
              <a:xfrm>
                <a:off x="4708440" y="459756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33920" y="480564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08440" y="466740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8440" y="47721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95480" y="482472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671720" y="48596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55880" y="48945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67040" y="482472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636800" y="4923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4693680" y="482616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4722480" y="482472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4919760" y="4526280"/>
              <a:ext cx="1812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Nightingale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Adoni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Young  Music / Stereo louds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80400" y="46850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4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78280" y="445788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83520" y="4996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14840" y="447048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498920" y="4437000"/>
            <a:ext cx="720720" cy="588960"/>
            <a:chOff x="4498920" y="4437000"/>
            <a:chExt cx="720720" cy="588960"/>
          </a:xfrm>
        </p:grpSpPr>
        <p:sp>
          <p:nvSpPr>
            <p:cNvPr id="454" name=""/>
            <p:cNvSpPr/>
            <p:nvPr/>
          </p:nvSpPr>
          <p:spPr>
            <a:xfrm>
              <a:off x="4498920" y="444960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498920" y="443700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V="1">
            <a:off x="4788000" y="422100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050920" y="4221000"/>
            <a:ext cx="1555920" cy="584640"/>
            <a:chOff x="2050920" y="4221000"/>
            <a:chExt cx="1555920" cy="584640"/>
          </a:xfrm>
        </p:grpSpPr>
        <p:grpSp>
          <p:nvGrpSpPr>
            <p:cNvPr id="458" name=""/>
            <p:cNvGrpSpPr/>
            <p:nvPr/>
          </p:nvGrpSpPr>
          <p:grpSpPr>
            <a:xfrm>
              <a:off x="2050920" y="4221000"/>
              <a:ext cx="187560" cy="349200"/>
              <a:chOff x="2050920" y="4221000"/>
              <a:chExt cx="187560" cy="349200"/>
            </a:xfrm>
          </p:grpSpPr>
          <p:sp>
            <p:nvSpPr>
              <p:cNvPr id="459" name=""/>
              <p:cNvSpPr/>
              <p:nvPr/>
            </p:nvSpPr>
            <p:spPr>
              <a:xfrm>
                <a:off x="2125800" y="422100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050920" y="442908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25800" y="4290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125800" y="439560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112840" y="44481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089080" y="448308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073240" y="451800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084040" y="444816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054160" y="454644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111400" y="444960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2139480" y="444816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2325600" y="4440240"/>
              <a:ext cx="1281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donis II (TFT, MPix) </a:t>
              </a:r>
              <a:r>
                <a:rPr b="1" i="1" lang="de-DE" sz="1000" spc="-1" strike="noStrike">
                  <a:solidFill>
                    <a:srgbClr val="ff0000"/>
                  </a:solidFill>
                  <a:latin typeface="Siemens Sans"/>
                </a:rPr>
                <a:t>Imag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06880" y="4281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2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2574000" y="424656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0000"/>
                </a:solidFill>
                <a:latin typeface="Siemens Sans"/>
              </a:rPr>
              <a:t>13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8000" y="4632480"/>
            <a:ext cx="37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0000"/>
                </a:solidFill>
                <a:latin typeface="Siemens Sans"/>
              </a:rPr>
              <a:t>99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0160" y="2082960"/>
            <a:ext cx="576000" cy="520560"/>
          </a:xfrm>
          <a:prstGeom prst="rect">
            <a:avLst/>
          </a:prstGeom>
          <a:solidFill>
            <a:srgbClr val="00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 u="sng">
                <a:solidFill>
                  <a:srgbClr val="ff0000"/>
                </a:solidFill>
                <a:uFillTx/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08000" y="4441680"/>
            <a:ext cx="555840" cy="655920"/>
            <a:chOff x="108000" y="4441680"/>
            <a:chExt cx="555840" cy="655920"/>
          </a:xfrm>
        </p:grpSpPr>
        <p:grpSp>
          <p:nvGrpSpPr>
            <p:cNvPr id="476" name=""/>
            <p:cNvGrpSpPr/>
            <p:nvPr/>
          </p:nvGrpSpPr>
          <p:grpSpPr>
            <a:xfrm>
              <a:off x="108000" y="4508640"/>
              <a:ext cx="111240" cy="371160"/>
              <a:chOff x="108000" y="4508640"/>
              <a:chExt cx="111240" cy="371160"/>
            </a:xfrm>
          </p:grpSpPr>
          <p:sp>
            <p:nvSpPr>
              <p:cNvPr id="477" name=""/>
              <p:cNvSpPr/>
              <p:nvPr/>
            </p:nvSpPr>
            <p:spPr>
              <a:xfrm>
                <a:off x="108000" y="4508640"/>
                <a:ext cx="111240" cy="37116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160"/>
                  <a:gd name="textAreaBottom" fmla="*/ 365760 h 371160"/>
                </a:gdLst>
                <a:ahLst/>
                <a:rect l="textAreaLeft" t="textAreaTop" r="textAreaRight" b="textAreaBottom"/>
                <a:pathLst>
                  <a:path w="21600" h="71907">
                    <a:moveTo>
                      <a:pt x="3600" y="0"/>
                    </a:moveTo>
                    <a:arcTo wR="3600" hR="3600" stAng="16200000" swAng="-5400000"/>
                    <a:lnTo>
                      <a:pt x="0" y="68307"/>
                    </a:lnTo>
                    <a:arcTo wR="3600" hR="3600" stAng="10800000" swAng="-5400000"/>
                    <a:lnTo>
                      <a:pt x="18000" y="719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08000" y="45828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8000" y="46944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08000" y="4731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08000" y="4768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08000" y="48056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8000" y="48427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9152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344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572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08520" y="444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Siemens Sans"/>
                </a:rPr>
                <a:t>08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4320" y="45385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Siemens Sans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9440" y="494496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Siemens Sans"/>
                </a:rPr>
                <a:t>95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754440" y="5614920"/>
            <a:ext cx="1393920" cy="467280"/>
            <a:chOff x="3754440" y="5614920"/>
            <a:chExt cx="1393920" cy="467280"/>
          </a:xfrm>
        </p:grpSpPr>
        <p:sp>
          <p:nvSpPr>
            <p:cNvPr id="491" name=""/>
            <p:cNvSpPr/>
            <p:nvPr/>
          </p:nvSpPr>
          <p:spPr>
            <a:xfrm>
              <a:off x="3780000" y="589932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DTC</a:t>
              </a:r>
              <a:r>
                <a:rPr b="1" i="1" lang="de-DE" sz="800" spc="-1" strike="noStrike">
                  <a:solidFill>
                    <a:srgbClr val="cc0000"/>
                  </a:solidFill>
                  <a:latin typeface="Siemens Sans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4067280" y="5614920"/>
              <a:ext cx="303120" cy="204840"/>
              <a:chOff x="4067280" y="5614920"/>
              <a:chExt cx="303120" cy="204840"/>
            </a:xfrm>
          </p:grpSpPr>
          <p:sp>
            <p:nvSpPr>
              <p:cNvPr id="493" name=""/>
              <p:cNvSpPr/>
              <p:nvPr/>
            </p:nvSpPr>
            <p:spPr>
              <a:xfrm>
                <a:off x="406728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15116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1948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09896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411300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07196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414792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418932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3388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20840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6556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3754440" y="57340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562800" y="5614920"/>
            <a:ext cx="1393920" cy="649800"/>
            <a:chOff x="6562800" y="5614920"/>
            <a:chExt cx="1393920" cy="649800"/>
          </a:xfrm>
        </p:grpSpPr>
        <p:sp>
          <p:nvSpPr>
            <p:cNvPr id="506" name=""/>
            <p:cNvSpPr/>
            <p:nvPr/>
          </p:nvSpPr>
          <p:spPr>
            <a:xfrm>
              <a:off x="6588360" y="5899320"/>
              <a:ext cx="1368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DTC ID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875640" y="5614920"/>
              <a:ext cx="303120" cy="204840"/>
              <a:chOff x="6875640" y="5614920"/>
              <a:chExt cx="303120" cy="204840"/>
            </a:xfrm>
          </p:grpSpPr>
          <p:sp>
            <p:nvSpPr>
              <p:cNvPr id="508" name=""/>
              <p:cNvSpPr/>
              <p:nvPr/>
            </p:nvSpPr>
            <p:spPr>
              <a:xfrm>
                <a:off x="687564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5952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2784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0732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692136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88032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95628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699768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94224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1676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7392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6562800" y="5734080"/>
              <a:ext cx="88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7381800" y="5229360"/>
            <a:ext cx="1054080" cy="365400"/>
            <a:chOff x="7381800" y="5229360"/>
            <a:chExt cx="1054080" cy="365400"/>
          </a:xfrm>
        </p:grpSpPr>
        <p:sp>
          <p:nvSpPr>
            <p:cNvPr id="521" name=""/>
            <p:cNvSpPr/>
            <p:nvPr/>
          </p:nvSpPr>
          <p:spPr>
            <a:xfrm>
              <a:off x="7810920" y="53640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81800" y="5229360"/>
              <a:ext cx="933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C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8132760" y="5300640"/>
              <a:ext cx="303120" cy="204840"/>
              <a:chOff x="8132760" y="5300640"/>
              <a:chExt cx="303120" cy="204840"/>
            </a:xfrm>
          </p:grpSpPr>
          <p:sp>
            <p:nvSpPr>
              <p:cNvPr id="524" name=""/>
              <p:cNvSpPr/>
              <p:nvPr/>
            </p:nvSpPr>
            <p:spPr>
              <a:xfrm>
                <a:off x="8132760" y="540540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216640" y="541980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184960" y="54435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164440" y="54691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8178480" y="541980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137440" y="54882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8213400" y="542124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8254800" y="541980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199360" y="530064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273880" y="53323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231040" y="5376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5" name=""/>
          <p:cNvSpPr/>
          <p:nvPr/>
        </p:nvSpPr>
        <p:spPr>
          <a:xfrm>
            <a:off x="3492360" y="5373720"/>
            <a:ext cx="15112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43640" y="5516640"/>
            <a:ext cx="151128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93080" y="5013360"/>
            <a:ext cx="151128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9:10:57Z</dcterms:created>
  <dc:creator>wolfgang glomb</dc:creator>
  <dc:description/>
  <dc:language>en-US</dc:language>
  <cp:lastModifiedBy>Dr. Thai Lai Pham</cp:lastModifiedBy>
  <dcterms:modified xsi:type="dcterms:W3CDTF">2004-12-06T17:21:43Z</dcterms:modified>
  <cp:revision>100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6899542</vt:r8>
  </property>
  <property fmtid="{D5CDD505-2E9C-101B-9397-08002B2CF9AE}" pid="3" name="_AuthorEmail">
    <vt:lpwstr>hans-peter.hoeckenreiner@siemens.com</vt:lpwstr>
  </property>
  <property fmtid="{D5CDD505-2E9C-101B-9397-08002B2CF9AE}" pid="4" name="_AuthorEmailDisplayName">
    <vt:lpwstr>Hoeckenreiner Hans-Peter ICM MP PD PGG</vt:lpwstr>
  </property>
  <property fmtid="{D5CDD505-2E9C-101B-9397-08002B2CF9AE}" pid="5" name="_EmailEntryID">
    <vt:lpwstr>0000000008915630F8A2FF418EE7142716FD55510700FD3615DE7618D511999C00508BB950F7000001221F410000A1E1BC96BF4F394FBF742F3042BC96C700000037E2B60000</vt:lpwstr>
  </property>
  <property fmtid="{D5CDD505-2E9C-101B-9397-08002B2CF9AE}" pid="6" name="_EmailStoreID">
    <vt:lpwstr>0000000038A1BB1005E5101AA1BB08002B2A56C20000454D534D44422E444C4C00000000000000001B55FA20AA6611CD9BC800AA002FC45A0C0000004D48484132324B43002F6F3D53434E2F6F753D5342534D434848303031452F636E3D526563697069656E74732F636E3D6D6368706D34303000</vt:lpwstr>
  </property>
  <property fmtid="{D5CDD505-2E9C-101B-9397-08002B2CF9AE}" pid="7" name="_EmailSubject">
    <vt:lpwstr>Scenario_2.ppt</vt:lpwstr>
  </property>
  <property fmtid="{D5CDD505-2E9C-101B-9397-08002B2CF9AE}" pid="8" name="_ReviewCycleID">
    <vt:r8>821996227</vt:r8>
  </property>
  <property fmtid="{D5CDD505-2E9C-101B-9397-08002B2CF9AE}" pid="9" name="_ReviewingToolsShownOnce">
    <vt:lpwstr/>
  </property>
</Properties>
</file>